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C86-0998-44DC-8697-165EF74D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0FB-197F-41BC-B6CD-35B22A8A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A4C-5DE3-481F-929E-C855404C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9A1-FB66-4013-B34E-BE860189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44A-FD0D-45D4-BFF1-21C86A32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D47-E7DD-4F2A-B665-EF7D72AA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034-097B-4444-8A2D-59269223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3B2-D01D-4CCE-9F43-6C2186FE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AC4-E3E9-47B3-806A-0D1671DA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829-9225-474A-8E28-527D19D7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F0B-2A88-40F8-BE48-BE92429E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702-A266-4F60-94F9-8AEC8F46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A949-C809-4018-885E-8E25C2181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469080"/>
            <a:ext cx="79218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единица 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431496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 них: изготавливающие лекарственные препара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ительного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о-диагностические кабине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7497"/>
          <p:cNvSpPr/>
          <p:nvPr/>
        </p:nvSpPr>
        <p:spPr>
          <a:xfrm>
            <a:off x="-734760" y="-1795680"/>
            <a:ext cx="106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100)              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Коды по ОКЕИ: человек – 792;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371"/>
          <p:cNvSpPr/>
          <p:nvPr/>
        </p:nvSpPr>
        <p:spPr>
          <a:xfrm>
            <a:off x="516240" y="904320"/>
            <a:ext cx="8193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ды по ОКЕИ: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539640" y="474480"/>
            <a:ext cx="842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ды по ОКЕИ: человек – 792; единица – 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71400" y="690840"/>
            <a:ext cx="831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Код по ОКЕИ: человек – 7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484280"/>
          <a:ext cx="8280360" cy="515772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ОКЕИ: человек – 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согласно отправленной формы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вместе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 протоколам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тологоанатомических вскрытий в районе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ончарова Марина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ач-статистик Хамина Татья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dcterms:modified xsi:type="dcterms:W3CDTF">2019-12-19T02:09:59Z</dcterms:modified>
  <cp:revision>47</cp:revision>
  <dc:subject/>
  <dc:title>Слайд 1</dc:title>
</cp:coreProperties>
</file>